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9853-7050-4C3D-A522-8750931A2EB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E576-BD28-4A1F-BADA-03DC46B66429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8638E-BB0D-42E1-A1DD-B2BFF5A08443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7A300-9A6A-44EF-BEFF-4526D88C68F0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E209C-01EC-4902-8289-20881A876A37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4D916-82CE-4C15-916E-6FB9178E8DBE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661DD-6D6B-4B06-AFB9-F7DD81523F05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6B626-0274-483A-B2B0-ACBC54871526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71CC-5202-44C2-93B9-7C1CE9611FD1}" type="slidenum">
              <a:rPr b="0" lang="en-CA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E566-6508-4AEB-8122-B304BBDEE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4093B-23D9-466B-B2F0-B2D774235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3497-3D3D-4593-99FE-D1A01A21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42C9C-9E94-453A-A3B1-DC5E34B358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8D02-6B6D-4F89-A547-29C76CBCC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1017-9D26-43B5-A515-7567E2CD0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95615-38CD-46B2-A24A-55AAF9FE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CA89-A930-4ECC-8E8F-C506D7B19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6CFA1-A1F3-4C6D-9EF3-D3B6D9CAE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822E6-94E5-420C-9354-7BC64E29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AF3-ACD0-42B8-8B94-8E6B3CFDF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32A1-C23F-417C-AC88-47C2FEA9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9A0A7-A9BF-45AC-83F7-E4DD6C90F7AA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9680" y="191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3348000" y="4568760"/>
            <a:ext cx="170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Presentation by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Rectangle 8"/>
          <p:cNvSpPr/>
          <p:nvPr/>
        </p:nvSpPr>
        <p:spPr>
          <a:xfrm>
            <a:off x="2190600" y="4906800"/>
            <a:ext cx="424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  <a:ea typeface="Arial"/>
              </a:rPr>
              <a:t>Erika Gates-Gasse, OCAS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ontent Placeholder 4" descr=""/>
          <p:cNvPicPr/>
          <p:nvPr/>
        </p:nvPicPr>
        <p:blipFill>
          <a:blip r:embed="rId1"/>
          <a:stretch/>
        </p:blipFill>
        <p:spPr>
          <a:xfrm>
            <a:off x="4500720" y="6437160"/>
            <a:ext cx="2635200" cy="37656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2390760" y="5967360"/>
            <a:ext cx="165096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wis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700" spc="-1" strike="noStrike">
                <a:solidFill>
                  <a:srgbClr val="000000"/>
                </a:solidFill>
                <a:latin typeface="Trebuchet MS"/>
                <a:ea typeface="Arial"/>
              </a:rPr>
              <a:t>Organizational Standard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5"/>
          <p:cNvSpPr/>
          <p:nvPr/>
        </p:nvSpPr>
        <p:spPr>
          <a:xfrm>
            <a:off x="4446720" y="6093000"/>
            <a:ext cx="98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000" spc="-1" strike="noStrike">
                <a:solidFill>
                  <a:srgbClr val="000000"/>
                </a:solidFill>
                <a:latin typeface="Calibri"/>
                <a:ea typeface="Arial"/>
              </a:rPr>
              <a:t>Funded by: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itle 1"/>
          <p:cNvSpPr/>
          <p:nvPr/>
        </p:nvSpPr>
        <p:spPr>
          <a:xfrm>
            <a:off x="115920" y="189000"/>
            <a:ext cx="77724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300" spc="-1" strike="noStrike">
                <a:solidFill>
                  <a:srgbClr val="ffffff"/>
                </a:solidFill>
                <a:latin typeface="Trebuchet MS"/>
              </a:rPr>
              <a:t>Context</a:t>
            </a:r>
            <a:endParaRPr b="0" lang="en-US" sz="4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10" descr=""/>
          <p:cNvPicPr/>
          <p:nvPr/>
        </p:nvPicPr>
        <p:blipFill>
          <a:blip r:embed="rId2"/>
          <a:stretch/>
        </p:blipFill>
        <p:spPr>
          <a:xfrm>
            <a:off x="7209000" y="6308640"/>
            <a:ext cx="1108080" cy="5176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2" descr=""/>
          <p:cNvPicPr/>
          <p:nvPr/>
        </p:nvPicPr>
        <p:blipFill>
          <a:blip r:embed="rId3"/>
          <a:stretch/>
        </p:blipFill>
        <p:spPr>
          <a:xfrm>
            <a:off x="8354880" y="6024600"/>
            <a:ext cx="690840" cy="765000"/>
          </a:xfrm>
          <a:prstGeom prst="rect">
            <a:avLst/>
          </a:prstGeom>
          <a:ln w="0">
            <a:noFill/>
          </a:ln>
        </p:spPr>
      </p:pic>
      <p:sp>
        <p:nvSpPr>
          <p:cNvPr id="57" name="TextBox 1"/>
          <p:cNvSpPr/>
          <p:nvPr/>
        </p:nvSpPr>
        <p:spPr>
          <a:xfrm>
            <a:off x="115920" y="966960"/>
            <a:ext cx="8848800" cy="44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2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creation of the Citizenship and Immigration Canada Francophone Minority Communities Steering Committee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November 2003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Framework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outlined 5 objectiv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March 2005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publishes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Towards Building a Canadian Francophonie of Tomorrow: Summary of Initiatives 2002-2006 to Foster Immigration to Francophone Minority Communities;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900" spc="-1" strike="noStrike">
                <a:solidFill>
                  <a:srgbClr val="000000"/>
                </a:solidFill>
                <a:latin typeface="Calibri"/>
              </a:rPr>
              <a:t>September 2006: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releases the 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Strategic Plan to Foster Immigration to Francophone Minority Communities, 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which is a five year plan to better coordinate the efforts to achieve the five objectives set out in the</a:t>
            </a:r>
            <a:r>
              <a:rPr b="0" i="1" lang="en-CA" sz="1900" spc="-1" strike="noStrike">
                <a:solidFill>
                  <a:srgbClr val="000000"/>
                </a:solidFill>
                <a:latin typeface="Calibri"/>
              </a:rPr>
              <a:t> Framework</a:t>
            </a: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arget: By 2008, 4.4% of newcomers outside of Quebec should be French-speaking. 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900" spc="-1" strike="noStrike">
                <a:solidFill>
                  <a:srgbClr val="000000"/>
                </a:solidFill>
                <a:latin typeface="Calibri"/>
              </a:rPr>
              <a:t>The Steering Committee estimated it would take 15 years to reach the annual target of 8,000 to 10,000 French speaking immigrants to Francophone Minority Communities (FMCs)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95280" y="549360"/>
            <a:ext cx="8424720" cy="488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Between 2003 and 2011, approximately 40% of French-speaking newcomers came from the sub-Saharan African reg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Outside of Quebec, Ontario has the greatest number of French-speaking people. New Brunswick has some 236,100 Francophones (33% of the its population). Ontario has 2x this number, with a population of 578,045 Francophones (~4.8% of total population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According to the 2006 Census, immigrants represent approximately 20% of the total population of Canada and 28% of the population of Ontario; 2.8% of immigrants in Ontario are French-speaking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Francophone immigration is largely an urban phenomenon in Ontario. In 2006, 92% of Francophone immigrants lived in Toronto (33.1%), in Ottawa (24.3%) or in southern Ontario. Approximately 20% live in Peel and York. Hamilton, Halton, Essex, Waterloo, Middlesex, Durham, and Niagara account for approximately 15% of Francophone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fugees an important source of French-speaking newcomers (22% vs 11%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The number and make-up of French-speaking immigrants to FMC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French-speaking immigrant” definition changed to specify those whose first official language is French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2.     Immigrant mobility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Calibri"/>
              </a:rPr>
              <a:t>No data available on the mobility rate of French-speaking immigrants within Canada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3.     Integration difficulties for immigrants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     FMCs’ lack of capacity to recruit, receive and integrate French-speaking immigran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Strategic Focu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3964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Better integration of immigrants &amp; refugees already settled in FMC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rench-speaking immigrants and refugees from Africa and Hait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Recruitment of new immigrants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conomic class immigrants and international students, refuge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09040" indent="-509040">
              <a:spcBef>
                <a:spcPts val="601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Calibri"/>
              </a:rPr>
              <a:t>Integration, retention and settlement of new French-speaking immigrants in FMC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cused approach (targeted funding to specific FMCs with demonstrated capacity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Fostering the employability of workers trained abroad (focus on health &amp; education)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nsuring a functional methodology for teaching both official languages and an effective method for delivery (67% don’t use French at work)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50920" y="44280"/>
            <a:ext cx="8229600" cy="63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250560" y="62028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Coordination Mechanis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Local &amp; provincial: Réseaux en immigration francophone (Ottawa, Hamilton and Sudbury)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National: Francophone Minority Communities Steering Committee, Implementation Committe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000000"/>
                </a:solidFill>
                <a:uFillTx/>
                <a:latin typeface="Calibri"/>
              </a:rPr>
              <a:t>Priorities for 2006-201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and supporting local network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ncreasing awareness of the local community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Implementing language training in English and/or Fren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viding training to upgrade professional and employability skill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Implement 3 major pilot projects over 5 years in at least 2 fields (education and health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Research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the creation of micro-businesse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French-language post-secondary institutions in the recruitment and integration of international stude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Proposal to support the initiatives of 10 post-secondary institutions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Promoting immigration and selecting potential immigrants;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685800" indent="-228600"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700" spc="-1" strike="noStrike">
                <a:solidFill>
                  <a:srgbClr val="000000"/>
                </a:solidFill>
                <a:latin typeface="Calibri"/>
              </a:rPr>
              <a:t>Supporting refugee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ffffff"/>
                </a:solidFill>
                <a:latin typeface="Trebuchet MS"/>
              </a:rPr>
              <a:t>Ontario Immigration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August 2011: Final Report: Research on Settlement Services Available in French for Francophone Newcomers to Ontario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Francophone immigration to Ontario is increasing. They represent 2.8% of Ontario's total immigrant population. New Francophone immigrants who arrived between 2001 and 2006 represent 3.8% of Ontario's recent immigrants (2001-2006). Since 2000, 3,500 to 4,000 Francophones have immigrated to Ontario each year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Labour-market integration and language classes identified by participants as major barriers.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November 2012: Launch of Ontario’s Immigration Strateg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Target: achieve 5% Francophone immigr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Calibri"/>
              </a:rPr>
              <a:t>Expert Roundtable recommends using the Provincial Nominee Program to achieve this targ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ffffff"/>
                </a:solidFill>
                <a:latin typeface="Trebuchet MS"/>
              </a:rPr>
              <a:t>CIC Evaluation of the Strateg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08000" y="1052640"/>
            <a:ext cx="885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July 2012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Evaluation of the Recruitment and Integration of French Speaking Immigrants to Francophone Minority Communities Initiative, 2008-201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4.4% objective: 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CIC set a short and long term objective: 1.8% by 2013, 4.4% by 2023.  According to their numbers, 1.8% achieved in 2004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Network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 stability of funding, national vs regional visio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Services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increase in number of services provided in French (but stats are for agencies that have served at least </a:t>
            </a:r>
            <a:r>
              <a:rPr b="0" lang="en-CA" sz="2000" spc="-1" strike="noStrike" u="sng">
                <a:solidFill>
                  <a:srgbClr val="000000"/>
                </a:solidFill>
                <a:uFillTx/>
                <a:latin typeface="Calibri"/>
              </a:rPr>
              <a:t>one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French-speaking newcomer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search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: significant new research created, but still an under-researched area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000" spc="-1" strike="noStrike">
                <a:solidFill>
                  <a:srgbClr val="000000"/>
                </a:solidFill>
                <a:latin typeface="Calibri"/>
              </a:rPr>
              <a:t>Recruitment barriers:</a:t>
            </a: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 immigrant selection process can be a significant barrier. Destination Canad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12T19:27:32Z</dcterms:created>
  <dc:creator>dmontague</dc:creator>
  <dc:description/>
  <dc:language>en-US</dc:language>
  <cp:lastModifiedBy>egates-gasse</cp:lastModifiedBy>
  <dcterms:modified xsi:type="dcterms:W3CDTF">2013-09-26T16:15:23Z</dcterms:modified>
  <cp:revision>40</cp:revision>
  <dc:subject/>
  <dc:title>PowerPoint Presentation</dc:title>
</cp:coreProperties>
</file>